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B83-7785-415C-ACC9-FE4F3A6E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97E-2A85-4501-B267-F9EFBB45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16E-E495-47E6-842A-E9DBE4F9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1C7-F59A-412A-9F21-B14F1FEE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A2DD-855F-41D9-8F2B-9B87E451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43FF-8919-49A2-AA4A-8B648EF3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6DBA-BA87-4860-B5AF-048ACC87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BB70-BADC-42A6-A0A4-A8604E3E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9E25-C048-4348-9EE0-4395E3B9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D39-7089-4CE6-A4E8-F9D75C88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249-0C88-49D8-9F42-5E79EDFB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A6F-8694-4346-947F-EE340B92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271C-3BE3-4177-B303-B375ADF7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43C5-CB1C-434C-BDA9-7C9453E9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8E7-F978-428C-A407-A997087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DB9A-AEF2-4F20-B908-9CF47BAA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A958-A802-478B-99F8-766756AC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1C3-5134-42DF-99D3-984CFCC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6D8-F67B-4624-AE7D-0D8FA2E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B8B-C1B9-475A-A8E0-17B98200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AE1-96D0-4E66-9A33-AD3253A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8D3-A6B4-4A46-9265-364F5AE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3F0-B17C-43C4-9DC5-DD81B551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A8C-A38D-4466-9C62-838AF2B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08B5-4E6C-46B2-A759-5C4F626647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9C9C-16A0-403C-9B17-B4B986943B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ydne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Austra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1890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60280"/>
            <a:ext cx="3456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vi : G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îrbove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Ene H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mb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ănac Crist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Bibliografi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wikipedi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ogle.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Sydney este capitala statului Noua Galie de Sud, Austral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De asemenea, orașul este cel mai mare din Australia, cu o populație de 4.200.0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În Sydney se află celebra Sydney Opera Hou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Sydney deține recordul superlativelor în Australia: este cel mai mare oraș, cel mai mare centru industrial, cultural și financiar, cel mai mare port, cel mai mare nod de comunicație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.</a:t>
            </a: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Book Antiqua"/>
              </a:rPr>
              <a:t>În centrul orașului se află și cea mai mare aglomerație de zgârie-nori, de magazine, de galerii, de baruri și de restaura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rtul Sydney este inima şi sufletul oraşului. Mai mult, este locul vestitei Opere şi al Podului Portului. Oricare din străzile oraşului oferă o perspectivă asupra portului şi clădirilor sale. Cea mai bună alegere de vizitare a portului este o croazieră in portul Darl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96720" y="-27000"/>
            <a:ext cx="9937440" cy="691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Book Antiqua"/>
              </a:rPr>
              <a:t>Opera din Sydney este cea mai cunoscută clădire a secolului XX, datorită formei inovatoare şi a tehnicilor de construcţie folosi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Book Antiqua"/>
              </a:rPr>
              <a:t>La 30 de ani după inaugurare, clădirea a fost inclusă în patrimoniul ţăr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3:49:46Z</dcterms:created>
  <dc:creator>elev</dc:creator>
  <dc:description/>
  <dc:language>en-US</dc:language>
  <cp:lastModifiedBy>elev</cp:lastModifiedBy>
  <dcterms:modified xsi:type="dcterms:W3CDTF">2011-03-04T13:31:07Z</dcterms:modified>
  <cp:revision>8</cp:revision>
  <dc:subject/>
  <dc:title>Diapozitivul 1</dc:title>
</cp:coreProperties>
</file>